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957-19A1-4A74-85CC-D40D9EAC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C49-99E3-4650-8EDC-21D79CE6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392-ED67-4D36-85E4-0FC8AC4F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1C3-ED5C-42FE-AE3A-34BE1110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CAC-B28C-483E-9E74-4D723340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D8C-C249-430D-81BA-7948E595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635-81E7-4E50-AC53-6198D98E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643-001A-4984-BA29-6BF26DD0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B70-0EEF-4307-9B48-98CDD7AC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910-74F2-4864-A6E1-A3C1D2CC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373-ECBE-4B3E-8047-045B05C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949-7A46-4CB6-95F6-8C2C880F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7ACD-AD94-4142-BC49-13E9D4AB2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zumaeta@renaissancecharter.or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Clase 8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9 de mayo d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76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repasamos el Capitulo 8 para el exa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L.O: to review for the Unit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6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6 (6-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ltura en Viv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las hoj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pter 8: Cultura en Vivo ¡Viva Mexic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s 3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87 (16-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9:14:38Z</dcterms:created>
  <dc:creator>Helen Zumaeta</dc:creator>
  <dc:description/>
  <dc:language>en-US</dc:language>
  <cp:lastModifiedBy>Helen Zumaeta</cp:lastModifiedBy>
  <cp:lastPrinted>2016-05-04T19:08:48Z</cp:lastPrinted>
  <dcterms:modified xsi:type="dcterms:W3CDTF">2016-05-09T20:30:16Z</dcterms:modified>
  <cp:revision>9</cp:revision>
  <dc:subject/>
  <dc:title>Me llamo ________ Clase 10 N La fecha es el 15 de enero del 2013</dc:title>
</cp:coreProperties>
</file>